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04C-024C-47BD-9EA8-440E6CCF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007-1AD5-4A03-B0D3-E2BDA370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04D-2DC1-4ACF-8E0D-E8991C32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568-733B-40A8-A6D8-A7202BD8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2B8-44C9-4D00-967E-0436F74D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1C64-EDE1-4F7A-81AA-466CB3DA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AA4F-EDAF-43FA-8ABC-7CA210AE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09E0-87D6-4713-A9D5-19D5A4E4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0C0B-4C1D-4A61-A116-14DCCC25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58EC-589B-4E1E-92FC-B374B5DA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A9D6-E540-47BF-B590-DF96E148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5C3-BA99-4F75-99ED-CE2461AC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101D-FDE5-4953-8E32-D6BEE0F9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D554-1384-4A15-A322-5FD61632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5CF2-F10B-43A2-B852-3D3EA76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6629-DDBD-466C-A42F-ECED29DD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BCE9-57A7-4AAA-85F9-6A9FF27B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7E5-B687-4BAF-A49C-5B917DC1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D0E-D183-47F8-AEAD-3BA6F914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B92-55FA-4718-90C6-6E01344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B58F-82AA-4833-B0BF-0A79244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88B4-B035-4DCA-B8C3-1A51E68F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7EF-86D3-4BA1-B0B8-576DDE2A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50F-EE28-4A68-A6A2-2F95229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EB13-EFC6-4D69-99E2-C7D4EC46ECAD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F647-7DEB-4D8A-9B58-19478D5E1DD4}" type="slidenum">
              <a:rPr b="0" lang="it-IT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Il C.P.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E’ costituito dai rappresentanti dei datori di Lavoro (ACEN)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dai rappresentanti delle tre organizzazioni sindacali  (FILLEA-CGIL, FILCA-CISL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eaeaea"/>
                </a:solidFill>
                <a:latin typeface="Garamond"/>
              </a:rPr>
              <a:t>FENEAL-UIL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Segnaposto contenuto 4" descr="claudio lavoro 301.jpg"/>
          <p:cNvPicPr/>
          <p:nvPr/>
        </p:nvPicPr>
        <p:blipFill>
          <a:blip r:embed="rId1"/>
          <a:stretch/>
        </p:blipFill>
        <p:spPr>
          <a:xfrm>
            <a:off x="457200" y="500040"/>
            <a:ext cx="8258040" cy="5786640"/>
          </a:xfrm>
          <a:prstGeom prst="rect">
            <a:avLst/>
          </a:prstGeom>
          <a:ln w="0">
            <a:noFill/>
          </a:ln>
        </p:spPr>
      </p:pic>
      <p:sp>
        <p:nvSpPr>
          <p:cNvPr id="146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Segnaposto contenuto 3" descr="claudio lavoro 041.jpg"/>
          <p:cNvPicPr/>
          <p:nvPr/>
        </p:nvPicPr>
        <p:blipFill>
          <a:blip r:embed="rId1"/>
          <a:stretch/>
        </p:blipFill>
        <p:spPr>
          <a:xfrm>
            <a:off x="642960" y="571680"/>
            <a:ext cx="7929720" cy="5857560"/>
          </a:xfrm>
          <a:prstGeom prst="rect">
            <a:avLst/>
          </a:prstGeom>
          <a:ln w="0">
            <a:noFill/>
          </a:ln>
        </p:spPr>
      </p:pic>
      <p:sp>
        <p:nvSpPr>
          <p:cNvPr id="14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egnaposto contenuto 3" descr="claudio lavoro 093.jpg"/>
          <p:cNvPicPr/>
          <p:nvPr/>
        </p:nvPicPr>
        <p:blipFill>
          <a:blip r:embed="rId1"/>
          <a:stretch/>
        </p:blipFill>
        <p:spPr>
          <a:xfrm>
            <a:off x="622440" y="514440"/>
            <a:ext cx="8021520" cy="5900760"/>
          </a:xfrm>
          <a:prstGeom prst="rect">
            <a:avLst/>
          </a:prstGeom>
          <a:ln w="0">
            <a:noFill/>
          </a:ln>
        </p:spPr>
      </p:pic>
      <p:sp>
        <p:nvSpPr>
          <p:cNvPr id="150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egnaposto contenuto 3" descr="234a.jpg"/>
          <p:cNvPicPr/>
          <p:nvPr/>
        </p:nvPicPr>
        <p:blipFill>
          <a:blip r:embed="rId1"/>
          <a:stretch/>
        </p:blipFill>
        <p:spPr>
          <a:xfrm>
            <a:off x="928800" y="785880"/>
            <a:ext cx="728640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Grazie per la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gentile pazienz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laudio Cioff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eaeaea"/>
                </a:solidFill>
                <a:latin typeface="Verdana"/>
              </a:rPr>
              <a:t>CPT NAPOL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egnaposto piè di pagina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PIM0578"/>
          <p:cNvPicPr/>
          <p:nvPr/>
        </p:nvPicPr>
        <p:blipFill>
          <a:blip r:embed="rId1"/>
          <a:stretch/>
        </p:blipFill>
        <p:spPr>
          <a:xfrm>
            <a:off x="250920" y="260280"/>
            <a:ext cx="8574120" cy="5792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4716360" y="1125360"/>
            <a:ext cx="360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Pubblicazione di materiale di informazione e propaganda sui temi della salute e della sicurezz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Corsi di formazione per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RSPP – RLS – ADDETTI EMERGENZA  e PRIMO SOCCORS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eaeaea"/>
                </a:solidFill>
                <a:latin typeface="Verdana"/>
              </a:rPr>
              <a:t>Consulenza sui luoghi di lavoro per favorire l’attuazione delle norme di sicurezza e sulle misure prevenzionali da adottare nei cantieri edil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87280" y="301140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776240" y="2924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80808"/>
                </a:solidFill>
                <a:latin typeface="Verdana"/>
              </a:rPr>
              <a:t>Cosa fa il C.P.T.?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cc"/>
                </a:solidFill>
                <a:latin typeface="Arial"/>
              </a:rPr>
              <a:t>COLLABORAZIONI CO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4" descr="HPIM0063"/>
          <p:cNvPicPr/>
          <p:nvPr/>
        </p:nvPicPr>
        <p:blipFill>
          <a:blip r:embed="rId1"/>
          <a:stretch/>
        </p:blipFill>
        <p:spPr>
          <a:xfrm>
            <a:off x="768240" y="1600200"/>
            <a:ext cx="2874960" cy="4530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857760" y="1599840"/>
            <a:ext cx="482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RACCOLTA NOTIFICHE PRELIMINARI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DIREZIONE PROVINCIALE DEL LAVOR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AS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FORMAZIONE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INAIL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SCUOLE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eaeaea"/>
                </a:solidFill>
                <a:latin typeface="Verdana"/>
              </a:rPr>
              <a:t>CONSULENZA  NEI  CANTIERI  CON: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SIRENA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Nello specifico con SIRENA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1680" y="1599840"/>
            <a:ext cx="8115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IL PROTOCOLLO PREVED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CONSULENZA NEI CANTIERI ESPLETATA MEDIANTE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1 SOPRALLUOGO CONGIUN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MONITORAGGIO SVOLGIMENTO ATTIVITA’ CANTIE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eaeaea"/>
                </a:solidFill>
                <a:latin typeface="Verdana"/>
              </a:rPr>
              <a:t>EVENTUALE SEGNALAZIONE CRITICITA’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ED ECCO LE MAGGIORI CRITICITA’…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4296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OPRALLUOGHI  ESEGUITI nell’ ambito del COMUNE NAPOL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CANTIERI CENTRO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126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CANTIERI PERIFERIE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  5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CRITICITA’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Cantieri Centro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26 cantie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271 sopralluogh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354 infrazioni   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NUMERO INFRAZIONI PER SOPRALLUOG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TOTALE 1354/271       (media 5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1 visita: 906/113    (media 8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2 visita: 312/97      (media 3,2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3 visita: 136/71      (media 2,2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Cantieri Periferie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52 cantier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102 sopralluogh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aeaea"/>
                </a:solidFill>
                <a:latin typeface="Verdana"/>
              </a:rPr>
              <a:t>835 infrazion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NUMERO INFRAZIONI PER SOPRALLUOGO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aeaea"/>
                </a:solidFill>
                <a:latin typeface="Verdana"/>
              </a:rPr>
              <a:t>TOTALE 835/102       (media 8.18)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1 visita: 541/46      (media 11,7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2 visita: 208/35      (media   6,0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eaeaea"/>
                </a:solidFill>
                <a:latin typeface="Verdana"/>
              </a:rPr>
              <a:t>3 visita:   86/21      (media   4,1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TIPOLOGIE DI INFRAZIONI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4296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ANCANZA DEGLI ADEMPIMENTI o LORO NON CONFORMITA’ ALLE NORME . 51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ANCATO UTILIZZO D.P.I............ 13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ICOLO CADUTA DALL’ALTO……. 15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LTRE…………………………………………….. 21%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cc"/>
                </a:solidFill>
                <a:latin typeface="Arial"/>
              </a:rPr>
              <a:t>L’impegno…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4240" y="1599840"/>
            <a:ext cx="7972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Seminari informativi per datori di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lavoro e professionisti del setto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ttività di informazione e formazione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lavoratori mediante realizzazione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percorsi formativi e simulazioni 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multimediali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it-IT" sz="2800" spc="-1" strike="noStrike">
                <a:solidFill>
                  <a:srgbClr val="eaeaea"/>
                </a:solidFill>
                <a:latin typeface="Verdana"/>
              </a:rPr>
              <a:t>attività di formazione nelle scuo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L’obiettivo da raggiungere 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attraverso la distruzione di situazioni </a:t>
            </a:r>
            <a:br>
              <a:rPr sz="2800"/>
            </a:br>
            <a:r>
              <a:rPr b="0" lang="it-IT" sz="2800" spc="-1" strike="noStrike">
                <a:solidFill>
                  <a:srgbClr val="ffffcc"/>
                </a:solidFill>
                <a:latin typeface="Arial"/>
              </a:rPr>
              <a:t>del tipo:………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Segnaposto contenuto 12" descr="claudio lavoro 351.jpg"/>
          <p:cNvPicPr/>
          <p:nvPr/>
        </p:nvPicPr>
        <p:blipFill>
          <a:blip r:embed="rId1"/>
          <a:stretch/>
        </p:blipFill>
        <p:spPr>
          <a:xfrm>
            <a:off x="1666800" y="1600200"/>
            <a:ext cx="6067440" cy="4530600"/>
          </a:xfrm>
          <a:prstGeom prst="rect">
            <a:avLst/>
          </a:prstGeom>
          <a:ln w="0">
            <a:noFill/>
          </a:ln>
        </p:spPr>
      </p:pic>
      <p:sp>
        <p:nvSpPr>
          <p:cNvPr id="144" name="Segnaposto piè di pagina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eaeaea"/>
                </a:solidFill>
                <a:latin typeface="Verdana"/>
              </a:rPr>
              <a:t>Claudio Cioffi - C.P.T. NAPOLI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14:22:26Z</dcterms:created>
  <dc:creator>Cioffi</dc:creator>
  <dc:description/>
  <dc:language>en-US</dc:language>
  <cp:lastModifiedBy> </cp:lastModifiedBy>
  <dcterms:modified xsi:type="dcterms:W3CDTF">2010-01-20T11:54:30Z</dcterms:modified>
  <cp:revision>22</cp:revision>
  <dc:subject/>
  <dc:title>Il Comitato Paritetico Territoriale per la Prevenzione Infortuni, l’Igiene e l’Ambiente di Lavoro  della provincia di Napoli</dc:title>
</cp:coreProperties>
</file>